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E30-6648-411C-ACBA-6456BC57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645-A8FE-4B6F-8442-C87BDE11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970-F2E4-4F4D-B064-725C7E56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C6E-BFB4-4A7F-96F5-9A5FCE76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27E3-A0C2-46E5-ADF5-0D5DAA06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E55F-9946-4A62-BD00-98FD07FE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B1C2-2453-43E1-B5D8-39111C47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C50D-C877-4E92-95A6-8ECDD3B3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5A7-B506-4648-B399-DA4D04E6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2CC5-DCFD-4C1B-9FA8-83D21C07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5EF2-B129-444A-B7DC-D213211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C38-D704-4DD3-AF7A-E5DC7457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235F-AF1D-4BDD-BD6B-6380527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1E41-8EDD-4431-AEA7-07A2E29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DC24-9911-4606-8750-6C359945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65EA-ADBE-4D51-8C0D-847D186D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6A1-D6A3-448C-9131-F1C707A8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B91-6CA7-481D-B094-EF3551D2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AB8-80E0-4A0E-821B-A469D435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1B6-A855-4F18-9834-3D93B5A4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1AD-4092-4CC5-BE07-54414AF3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A35-6D4D-4EA7-AAC8-3504FDC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D86-8013-4CCE-8316-735CB8FC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1B1-D992-46EA-85F5-2C03FB21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42F5-15E8-41B5-97A3-396682CC7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2294-9973-494E-BA5E-7AD755D8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rodnet.houstonisd.org/DAEP/Referrals.aspx" TargetMode="External"/><Relationship Id="rId2" Type="http://schemas.openxmlformats.org/officeDocument/2006/relationships/hyperlink" Target="http://prodnet.houstonisd.org/DAEP/Referrals.aspx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rodnet.houstonisd.org/DAEP/Referrals.aspx" TargetMode="External"/><Relationship Id="rId2" Type="http://schemas.openxmlformats.org/officeDocument/2006/relationships/hyperlink" Target="http://prodnet.houstonisd.org/DAEP/Referrals.aspx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he DAEP/JJAEP online referral program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it’s really simple!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note: The referral will not submit without a phone number and number of days e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27360" y="262728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5790960" cy="4038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525780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962520"/>
            <a:ext cx="195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get an error me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5. Print for your record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67280" cy="4776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477120" y="1752480"/>
            <a:ext cx="213336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will appea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f you submitted success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your record of the CEP referral – print it and place a copy in the student’s discipline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happens next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’ll be notified when you submit a referral and we will update the stat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tatus will read “initial” when first entered, you will need to see a message notification to indicate we’ve processed it (more on this nex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ta entered in chancery will not show on the online system until it has updated overnight – please keep this in mi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6. Status updat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271840" cy="4038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477120" y="1752480"/>
            <a:ext cx="230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atus has been updated, you will see this no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733920"/>
            <a:ext cx="2666880" cy="533160"/>
          </a:xfrm>
          <a:prstGeom prst="leftArrow">
            <a:avLst>
              <a:gd name="adj1" fmla="val 50000"/>
              <a:gd name="adj2" fmla="val 1250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61280" y="4383000"/>
            <a:ext cx="2269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ssa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7. Reading a messa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1676520"/>
            <a:ext cx="176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essag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here, along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othe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this 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6172200" cy="403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10800000">
            <a:off x="1676160" y="4800240"/>
            <a:ext cx="2514600" cy="228600"/>
          </a:xfrm>
          <a:prstGeom prst="leftArrow">
            <a:avLst>
              <a:gd name="adj1" fmla="val 50000"/>
              <a:gd name="adj2" fmla="val 27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4724280"/>
            <a:ext cx="1905120" cy="152640"/>
          </a:xfrm>
          <a:prstGeom prst="leftArrow">
            <a:avLst>
              <a:gd name="adj1" fmla="val 50000"/>
              <a:gd name="adj2" fmla="val 3120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114800"/>
            <a:ext cx="2133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is message contains information from me – please rea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267080"/>
            <a:ext cx="20574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message is automatically generated with a status change – NO INF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5562360" cy="4038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00600" y="3505320"/>
            <a:ext cx="3276720" cy="761760"/>
          </a:xfrm>
          <a:prstGeom prst="leftArrow">
            <a:avLst>
              <a:gd name="adj1" fmla="val 50000"/>
              <a:gd name="adj2" fmla="val 1075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2600" y="43434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click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87692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920" y="167652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you will s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reply and type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657600"/>
            <a:ext cx="4114800" cy="304920"/>
          </a:xfrm>
          <a:prstGeom prst="leftArrow">
            <a:avLst>
              <a:gd name="adj1" fmla="val 50000"/>
              <a:gd name="adj2" fmla="val 3373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80120" y="4183200"/>
            <a:ext cx="34066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f this message states there has been a status update, please locate the message with the information from our office – the status update is automatically generated, it will give you NO 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71500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79040" y="2438280"/>
            <a:ext cx="270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itial sc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how you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of referr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your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utilize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657600"/>
            <a:ext cx="4267440" cy="152280"/>
          </a:xfrm>
          <a:prstGeom prst="leftArrow">
            <a:avLst>
              <a:gd name="adj1" fmla="val 50000"/>
              <a:gd name="adj2" fmla="val 7005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8. Approv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referral is approved, you will get an email no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the email notification, put it in the student’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need a copy of the approval, go to HISTORICAL and print the last message for the student – it is the approval em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ow is an expulsion different?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(from a CEP referral)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2176200"/>
            <a:ext cx="76960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really isn’t. Remember – you must use the correct action code in Chancery for an expulsion (most often it is 02 EJJA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creen shots follow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1. First things first – is your data entered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cipline dat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entered into chancery with the appropriate action code (ex:07 ALTR for CEP, 02-EJJA for JJAEP) in order to use this system for a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 overnight upload must take place for chancery to “speak” to the online DAEP system – please keep thi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eckmark must be placed in chancery in the EVENT/CONCERN DETAIL SCREEN showing that this student was inv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960" y="4608360"/>
            <a:ext cx="717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768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754600" y="990720"/>
            <a:ext cx="307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udent you wish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l will hav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creen 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when you sel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tudent (thi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entered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c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33520"/>
            <a:ext cx="304920" cy="3124080"/>
          </a:xfrm>
          <a:prstGeom prst="downArrow">
            <a:avLst>
              <a:gd name="adj1" fmla="val 50000"/>
              <a:gd name="adj2" fmla="val 2561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267080" y="2286000"/>
            <a:ext cx="4191120" cy="228600"/>
          </a:xfrm>
          <a:prstGeom prst="leftArrow">
            <a:avLst>
              <a:gd name="adj1" fmla="val 50000"/>
              <a:gd name="adj2" fmla="val 45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5410080"/>
            <a:ext cx="6324480" cy="228600"/>
          </a:xfrm>
          <a:prstGeom prst="leftArrow">
            <a:avLst>
              <a:gd name="adj1" fmla="val 50000"/>
              <a:gd name="adj2" fmla="val 6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5080" y="2590920"/>
            <a:ext cx="26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you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lled”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35200" y="407844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scre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56840" y="32767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3276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019920" cy="52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19720" y="2819520"/>
            <a:ext cx="3581280" cy="228600"/>
          </a:xfrm>
          <a:prstGeom prst="leftArrow">
            <a:avLst>
              <a:gd name="adj1" fmla="val 50000"/>
              <a:gd name="adj2" fmla="val 3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6320" y="3200400"/>
            <a:ext cx="194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486400" cy="5181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10800000">
            <a:off x="3809520" y="4267080"/>
            <a:ext cx="3048120" cy="609840"/>
          </a:xfrm>
          <a:prstGeom prst="rightArrow">
            <a:avLst>
              <a:gd name="adj1" fmla="val 50000"/>
              <a:gd name="adj2" fmla="val 1249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23880" y="320040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ulsion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xpulsion submitte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560840" cy="3962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622840" y="163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1752480"/>
            <a:ext cx="25146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 will appea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f you submitted success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your record of the expulsion referral – print it and place a copy in the student’s discipline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ial note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messaging system works the same for an expulsion and for a CEP referral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ystem you use is the same for a CEP referral and an expul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Other inf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2563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can access “historical” data for your campus by selecting “historical” on your main scre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46680" y="17892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419720" y="137160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019920" cy="5181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31200" y="2362320"/>
            <a:ext cx="20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s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by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us w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0388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anges since last year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200400"/>
            <a:ext cx="1523880" cy="304920"/>
          </a:xfrm>
          <a:prstGeom prst="lef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12408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New!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rop down with school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010280" y="2819160"/>
            <a:ext cx="6098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about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pecial Education students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r DAEP referrals, we need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MDR, last annual ARD, and the Special Education 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Special Education form must be signed by the designated people in the SIO offic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JAEP referrals need: MDR supplement, minutes and signature page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vent/concern detail scree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91160" cy="4038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4876920"/>
            <a:ext cx="609480" cy="990360"/>
          </a:xfrm>
          <a:custGeom>
            <a:avLst/>
            <a:gdLst>
              <a:gd name="textAreaLeft" fmla="*/ 0 w 609480"/>
              <a:gd name="textAreaRight" fmla="*/ 609840 w 6094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1055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105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6172200"/>
            <a:ext cx="548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eckmark is needed on this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2120" y="2743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prodnet.houstonisd.org/DAEP/Referrals.asp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2. Log in to the syste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prodnet.houstonisd.org/DAEP/Referrals.asp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re you will be prompted for your HISD username and password (this is your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ortal passwor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 not forget an overnight upload must take place between chancery input and utilizing the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7680" y="529416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1800" y="5935680"/>
            <a:ext cx="775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648320"/>
            <a:ext cx="8001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appear under “campus referrals” – if the student is not listed, it means the student’s data is not in chanc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“find a student” – you should NEVER have to search for a student if chancery data is corr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3. Select the student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44840" y="2652840"/>
            <a:ext cx="5769000" cy="2925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41148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36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990360" y="24382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24080" y="24382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715000"/>
            <a:ext cx="792504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CEP referral – fields in yellow are filled out by chance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4. Select number of day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5791320" cy="4191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10800000">
            <a:off x="6019920" y="3580920"/>
            <a:ext cx="1752480" cy="414360"/>
          </a:xfrm>
          <a:prstGeom prst="rightArrow">
            <a:avLst>
              <a:gd name="adj1" fmla="val 50000"/>
              <a:gd name="adj2" fmla="val 1057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200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9718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027200">
            <a:off x="1676160" y="4038120"/>
            <a:ext cx="1295280" cy="228600"/>
          </a:xfrm>
          <a:prstGeom prst="leftArrow">
            <a:avLst>
              <a:gd name="adj1" fmla="val 50000"/>
              <a:gd name="adj2" fmla="val 1416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3526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placement is to end with the end of a semester, select tha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4. Add your phone number and submi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12920" y="1905120"/>
            <a:ext cx="5345280" cy="4038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5334120"/>
            <a:ext cx="838440" cy="990360"/>
          </a:xfrm>
          <a:custGeom>
            <a:avLst/>
            <a:gdLst>
              <a:gd name="textAreaLeft" fmla="*/ 279360 w 838440"/>
              <a:gd name="textAreaRight" fmla="*/ 718200 w 838440"/>
              <a:gd name="textAreaTop" fmla="*/ 570240 h 990360"/>
              <a:gd name="textAreaBottom" fmla="*/ 8485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5181480"/>
            <a:ext cx="3124080" cy="457200"/>
          </a:xfrm>
          <a:prstGeom prst="rightArrow">
            <a:avLst>
              <a:gd name="adj1" fmla="val 50000"/>
              <a:gd name="adj2" fmla="val 170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6:15:42Z</dcterms:created>
  <dc:creator>HISD</dc:creator>
  <dc:description/>
  <dc:language>en-US</dc:language>
  <cp:lastModifiedBy>HISD</cp:lastModifiedBy>
  <dcterms:modified xsi:type="dcterms:W3CDTF">2011-02-02T19:56:06Z</dcterms:modified>
  <cp:revision>64</cp:revision>
  <dc:subject/>
  <dc:title>The new DAEP/JJAEP online referral program</dc:title>
</cp:coreProperties>
</file>